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4FE2-BAB0-40BB-9992-0C90E2EA32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849E-D405-42F3-910B-4D7896B649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4397-3205-45F6-B042-0D15901AB5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5558-9D25-4A78-B7EF-7F6B8202FB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E77A-B9CB-4BB7-832A-63E59B0DB8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EEF6-9E36-48FA-96F4-49B9E67CF2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F3B9-31AE-4AAD-9120-21553DA139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BDCC-6D29-4AD1-8A52-E1443353EF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E7DF-9185-40FE-8530-440296EDD3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DE85-1592-4D76-B5CC-611D5A4F07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40B5-8BC4-444B-AD35-2D72331B12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DF2B-3E51-43AA-866A-0EECB7AF84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DD88-E1CD-42A2-BCCE-662DD5EC9C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6C54-EB77-499E-B988-649ABC7334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52DF-54CA-44D5-AD56-9643FADBA5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A4FC-2202-478A-A2D2-E2094C28F5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68C0-BB76-4817-B041-1628C3A01D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B63B-6830-4EBE-AC22-9CC1F3BBC6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2462-72BC-4165-B5BC-4FEA74B5CF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9CB8-60BB-4D3D-BE33-008BF4DFB4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EBDA-1FA5-4528-AB86-F067610140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4F92-E4FC-4F2A-BE32-E56159E3E4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CDC4-2DDC-4A2C-8301-8752A02B4F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5CDB-27D4-46F8-A4A3-51281F012B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402A-A43A-4F53-8E6C-4B6A91A1CB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D936-54BE-4118-B248-6DC72EFF79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FB5B-59E0-4A94-9C3B-9E201E90CA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63D0-39F8-4AA0-AE43-2A3E732EC5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3A47-A8FC-49A3-A8D9-139C126270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DFF8-92DB-4129-A586-983BC1D7D2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D233-3138-4843-91DC-717D5FD278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1DA-E14D-44CD-A2C9-89F38B99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47B-F2E4-4907-91B8-D5AC4285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36E-E6C6-4FAF-B3A4-BCE8D4E9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0EE-167B-4DC1-B0F2-2CFE1767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E7E3-7EE1-48DD-872A-FCD60487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3F2F-800A-4417-94C8-4BA06AEB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ADFE-745B-4543-8C0D-9C6D770D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DDC7-8848-4CDE-89C8-BD892EDA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48BF-28B1-472C-BBC1-92FA6436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1A6B-4570-4C3D-A82C-A25DE196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9F25-8CBC-406A-8855-886E1B8D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9CE-FAF0-4CCA-8B55-53B43208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FD00-0BC5-4A0C-8914-0767C12C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379D-450E-4C22-AFD4-42624CC5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5EDB-C3B3-492A-BA2B-55C67AB0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0891-A66B-4E66-B684-33F6B3BB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79B8-1AF6-41F6-90C6-B1996028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B34F0-C654-468F-9FD0-43ACE40C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012D0-296F-48BC-A063-F11FDF19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A16F0-27AF-49FB-91EA-577592CC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5205-3390-4901-8367-F8BBF188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5F6C-89D3-4CA7-A008-C9263498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D43-6AC5-4EA7-BE7B-9C9A22B8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2499-B3EA-416D-9EB6-CC2DFF6D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8451-D2E5-4D70-80FA-91D1870B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2293-061E-4E1C-A0AA-FA2A4C76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F30E8-8602-4C1C-872D-4E7616A9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1961-F288-4BE3-9BC0-7031B8D8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E80C-F41B-40F6-9E9E-1E8F2704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558B2-1A1E-49CF-B9E8-5D549431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E90E0-819A-45ED-A051-EC4F6358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811F9-F9B7-4398-9204-A6E86F2A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0F05B-66DA-4E9B-8786-8C3314CD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C71-2027-48E6-A311-F234E7CA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942D5-E1B0-49C1-AA3C-CF5BA35F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C58DA-C1CF-4950-9528-9A131E3C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81D55-9749-4190-BAAE-F2B7CD22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A90CD-8D57-4DAC-8443-320092CF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DFAA5-72BC-40C5-89B8-157747BB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19CA8-3557-49B3-B9F7-4B63CE91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92CBE-D857-49DD-8195-18407D69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94545-A306-4219-BB4B-8AE2CC35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C2E95-F6BF-466B-89A3-680D4D78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E95AF-039A-4193-9EF7-3D606A97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12E-CB3B-4021-A475-DDC870EE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7E9CA-2268-48F3-B962-27E680D2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8098F-C158-4167-BA9B-13CE05F5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CCB0D-5F3A-42C2-AE0E-A8C4EA87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46062-5C53-4381-A455-D176B09C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81CC2-0EA0-45AB-8B35-BD2DCF8A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5DCE8-BE59-447F-A296-9C6FEC7A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33A28-111E-44C0-8959-7B35239A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7745D-AB3A-4FCF-B362-D17AE0D0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CA160-FA32-4000-85B5-D12827D5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60E98-BBB7-471C-9E93-2CC849AB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8EC-785B-4DA7-9C00-39D7DC7D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814B0-CDA1-40BB-A740-810A9EFA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A3A-8BE7-463D-A15B-42D6DBB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BA4-9AA6-4DAF-B734-0F55254F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43C-F9CA-4106-9049-CCB598C2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2E2D-111E-4244-AA08-4C5EA5D57C39}" type="slidenum">
              <a:rPr b="0" lang="ru-RU" sz="1000" spc="-1" strike="noStrike">
                <a:solidFill>
                  <a:srgbClr val="a2aba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32BD-DC2D-4A23-A10C-1420A8D49A83}" type="slidenum">
              <a:rPr b="0" lang="ru-RU" sz="1000" spc="-1" strike="noStrike">
                <a:solidFill>
                  <a:srgbClr val="a2aba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F3FE-E450-46FF-8FAD-92E753CF2049}" type="slidenum">
              <a:rPr b="0" lang="ru-RU" sz="1000" spc="-1" strike="noStrike">
                <a:solidFill>
                  <a:srgbClr val="a2aba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8E25-C6F6-484F-8245-1F3B1D2BD019}" type="slidenum">
              <a:rPr b="0" lang="ru-RU" sz="1000" spc="-1" strike="noStrike">
                <a:solidFill>
                  <a:srgbClr val="a2aba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5FAB-9522-41E9-8445-04E23FB2EA9D}" type="slidenum">
              <a:rPr b="0" lang="ru-RU" sz="1000" spc="-1" strike="noStrike">
                <a:solidFill>
                  <a:srgbClr val="a2aba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851600" cy="25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48fba"/>
                </a:solidFill>
                <a:latin typeface="Arial"/>
                <a:ea typeface="Arial"/>
              </a:rPr>
              <a:t>АРОМАТНЫЙ ПОДАРОК</a:t>
            </a:r>
            <a:br>
              <a:rPr sz="4500"/>
            </a:br>
            <a:r>
              <a:rPr b="1" lang="ru-RU" sz="4500" spc="-1" strike="noStrike">
                <a:solidFill>
                  <a:srgbClr val="848fba"/>
                </a:solidFill>
                <a:latin typeface="Arial"/>
                <a:ea typeface="Arial"/>
              </a:rPr>
              <a:t>мастер – класс карвинг по мылу</a:t>
            </a:r>
            <a:endParaRPr b="1" lang="en-US" sz="4500" spc="-1" strike="noStrike">
              <a:solidFill>
                <a:srgbClr val="848fba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26733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67d7e"/>
                </a:solidFill>
                <a:latin typeface="Times New Roman"/>
                <a:ea typeface="Times New Roman"/>
              </a:rPr>
              <a:t>Автор: Артемьева Наталья Александр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67d7e"/>
                </a:solidFill>
                <a:latin typeface="Times New Roman"/>
                <a:ea typeface="Times New Roman"/>
              </a:rPr>
              <a:t>учитель обслуживающего тру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67d7e"/>
                </a:solidFill>
                <a:latin typeface="Times New Roman"/>
                <a:ea typeface="Times New Roman"/>
              </a:rPr>
              <a:t>МБОУ СОШ № 6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67d7e"/>
                </a:solidFill>
                <a:latin typeface="Times New Roman"/>
                <a:ea typeface="Times New Roman"/>
              </a:rPr>
              <a:t>Сургут 2013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E:\для мастеркласса по мылу\фото\Копия фото018.jpg"/>
          <p:cNvPicPr/>
          <p:nvPr/>
        </p:nvPicPr>
        <p:blipFill>
          <a:blip r:embed="rId1"/>
          <a:stretch/>
        </p:blipFill>
        <p:spPr>
          <a:xfrm>
            <a:off x="873000" y="692280"/>
            <a:ext cx="7453440" cy="5473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00080" y="4986000"/>
            <a:ext cx="6572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48fba"/>
                </a:solidFill>
                <a:latin typeface="Book Antiqua"/>
              </a:rPr>
              <a:t>Артемьева Н.А.</a:t>
            </a:r>
            <a:endParaRPr b="1" lang="en-US" sz="1800" spc="-1" strike="noStrike">
              <a:solidFill>
                <a:srgbClr val="848fb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1" descr="F:\IMG_2998.JPG"/>
          <p:cNvPicPr/>
          <p:nvPr/>
        </p:nvPicPr>
        <p:blipFill>
          <a:blip r:embed="rId1"/>
          <a:stretch/>
        </p:blipFill>
        <p:spPr>
          <a:xfrm>
            <a:off x="571680" y="571680"/>
            <a:ext cx="8072280" cy="5715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28800" y="5429160"/>
            <a:ext cx="77580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48fba"/>
                </a:solidFill>
                <a:latin typeface="Book Antiqua"/>
              </a:rPr>
              <a:t>Артемьева Н.А.</a:t>
            </a:r>
            <a:endParaRPr b="1" lang="en-US" sz="1800" spc="-1" strike="noStrike">
              <a:solidFill>
                <a:srgbClr val="848fb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ы будем выполнять рельефную резьбу розы по мылу (или карвинг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5b7e"/>
                </a:solidFill>
                <a:latin typeface="Verdana"/>
              </a:rPr>
              <a:t>Необходимые материалы и инструменты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зцы по дерев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ухонный нож с тонким лезви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еревянная палочка для маникюр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ыло мягкое пластично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" descr="E:\для мастеркласса по мылу\фото\фото057.jpg"/>
          <p:cNvPicPr/>
          <p:nvPr/>
        </p:nvPicPr>
        <p:blipFill>
          <a:blip r:embed="rId1"/>
          <a:stretch/>
        </p:blipFill>
        <p:spPr>
          <a:xfrm>
            <a:off x="5286240" y="642960"/>
            <a:ext cx="333720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929880"/>
            <a:ext cx="430992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По середине мыла намечаем неглубокий круг. Это будет центр нашего будущего цветка. Наметить его можно деревянной палочкой для маникю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2" descr="E:\для мастеркласса по мылу\фото\фото058.jpg"/>
          <p:cNvPicPr/>
          <p:nvPr/>
        </p:nvPicPr>
        <p:blipFill>
          <a:blip r:embed="rId1"/>
          <a:stretch/>
        </p:blipFill>
        <p:spPr>
          <a:xfrm>
            <a:off x="5214960" y="642960"/>
            <a:ext cx="3384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Далее по этому кругу делаем желобок резцом по дереву, который согнут угл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2" descr="E:\для мастеркласса по мылу\фото\фото059.jpg"/>
          <p:cNvPicPr/>
          <p:nvPr/>
        </p:nvPicPr>
        <p:blipFill>
          <a:blip r:embed="rId1"/>
          <a:stretch/>
        </p:blipFill>
        <p:spPr>
          <a:xfrm>
            <a:off x="5219640" y="549360"/>
            <a:ext cx="3313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На поверхности мыла получился  центр нашей будущей розоч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E:\для мастеркласса по мылу\фото\фото062.jpg"/>
          <p:cNvPicPr/>
          <p:nvPr/>
        </p:nvPicPr>
        <p:blipFill>
          <a:blip r:embed="rId1"/>
          <a:stretch/>
        </p:blipFill>
        <p:spPr>
          <a:xfrm>
            <a:off x="5003640" y="692280"/>
            <a:ext cx="33134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Выполняем серединку розы. Вырезаем первый лепесток, наклоняя резец или нож к центру круга. Когда лепесток вырезан, подрезаем под ним  слой мыла, чтобы освободить лепест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Picture 2" descr="E:\для мастеркласса по мылу\фото\фото063.jpg"/>
          <p:cNvPicPr/>
          <p:nvPr/>
        </p:nvPicPr>
        <p:blipFill>
          <a:blip r:embed="rId1"/>
          <a:stretch/>
        </p:blipFill>
        <p:spPr>
          <a:xfrm>
            <a:off x="5508720" y="623880"/>
            <a:ext cx="3070080" cy="2373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E:\для мастеркласса по мылу\фото\фото077.jpg"/>
          <p:cNvPicPr/>
          <p:nvPr/>
        </p:nvPicPr>
        <p:blipFill>
          <a:blip r:embed="rId2"/>
          <a:stretch/>
        </p:blipFill>
        <p:spPr>
          <a:xfrm>
            <a:off x="5508720" y="3429000"/>
            <a:ext cx="3166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. Продолжаем оформлять середину розы. Из центра выполненного лепестка, вырезаем  также второй, третий и последующие лепестки по кругу, так, чтобы лепестки заходили друг за друг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Центр розочки, из  скрученных  лепестков, гот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E:\для мастеркласса по мылу\фото\фото076.jpg"/>
          <p:cNvPicPr/>
          <p:nvPr/>
        </p:nvPicPr>
        <p:blipFill>
          <a:blip r:embed="rId1"/>
          <a:stretch/>
        </p:blipFill>
        <p:spPr>
          <a:xfrm>
            <a:off x="5435640" y="549360"/>
            <a:ext cx="3195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. Далее выполняем раскрытые  лепестки роз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рем резец, согнутый полукругом и вырезаем первый раскрытый  лепесток,  по внешнему краю от сделанной нами "бороздки" в мыле. Резец наклоняем  на себя, от центра цветка. После того, как вырезали лепесток, также подрезаем под ним основание, чтобы освободить лепест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2" descr="E:\для мастеркласса по мылу\фото\фото079.jpg"/>
          <p:cNvPicPr/>
          <p:nvPr/>
        </p:nvPicPr>
        <p:blipFill>
          <a:blip r:embed="rId1"/>
          <a:stretch/>
        </p:blipFill>
        <p:spPr>
          <a:xfrm>
            <a:off x="5435640" y="692280"/>
            <a:ext cx="3313080" cy="2376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E:\для мастеркласса по мылу\фото\фото080.jpg"/>
          <p:cNvPicPr/>
          <p:nvPr/>
        </p:nvPicPr>
        <p:blipFill>
          <a:blip r:embed="rId2"/>
          <a:stretch/>
        </p:blipFill>
        <p:spPr>
          <a:xfrm>
            <a:off x="5508720" y="3429000"/>
            <a:ext cx="32400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7. Так вырезаем второй и все последующие лепестки, двигаясь по кругу слева направо. Получается первый ряд лепестков. Под каждым лепестком необходимо срезать мыло, освобождая лепест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2" descr="E:\для мастеркласса по мылу\фото\фото094.jpg"/>
          <p:cNvPicPr/>
          <p:nvPr/>
        </p:nvPicPr>
        <p:blipFill>
          <a:blip r:embed="rId1"/>
          <a:stretch/>
        </p:blipFill>
        <p:spPr>
          <a:xfrm>
            <a:off x="5286240" y="500040"/>
            <a:ext cx="3375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E:\для мастеркласса по мылу\фото\фото128.jpg"/>
          <p:cNvPicPr/>
          <p:nvPr/>
        </p:nvPicPr>
        <p:blipFill>
          <a:blip r:embed="rId1"/>
          <a:stretch/>
        </p:blipFill>
        <p:spPr>
          <a:xfrm>
            <a:off x="571680" y="571680"/>
            <a:ext cx="7200720" cy="546732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2"/>
          <p:cNvSpPr/>
          <p:nvPr/>
        </p:nvSpPr>
        <p:spPr>
          <a:xfrm flipV="1" rot="10800000">
            <a:off x="2357280" y="52329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ир глазами художника» Артемьева Н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-при конкурса Город мас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8. Далее режем второй круг лепестков,  располагая их по отношению к первому кругу в шахматном поряд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2" descr="E:\для мастеркласса по мылу\фото\фото095.jpg"/>
          <p:cNvPicPr/>
          <p:nvPr/>
        </p:nvPicPr>
        <p:blipFill>
          <a:blip r:embed="rId1"/>
          <a:stretch/>
        </p:blipFill>
        <p:spPr>
          <a:xfrm>
            <a:off x="5219640" y="620640"/>
            <a:ext cx="3198960" cy="2521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E:\для мастеркласса по мылу\фото\фото169.jpg"/>
          <p:cNvPicPr/>
          <p:nvPr/>
        </p:nvPicPr>
        <p:blipFill>
          <a:blip r:embed="rId2"/>
          <a:stretch/>
        </p:blipFill>
        <p:spPr>
          <a:xfrm>
            <a:off x="5219640" y="3284640"/>
            <a:ext cx="3198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9. Таким образом, получается несколько рядов лепестков розы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2" descr="E:\для мастеркласса по мылу\фото\фото150.jpg"/>
          <p:cNvPicPr/>
          <p:nvPr/>
        </p:nvPicPr>
        <p:blipFill>
          <a:blip r:embed="rId1"/>
          <a:stretch/>
        </p:blipFill>
        <p:spPr>
          <a:xfrm>
            <a:off x="1619280" y="3357720"/>
            <a:ext cx="2448000" cy="2447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E:\для мастеркласса по мылу\фото\фото097.jpg"/>
          <p:cNvPicPr/>
          <p:nvPr/>
        </p:nvPicPr>
        <p:blipFill>
          <a:blip r:embed="rId2"/>
          <a:stretch/>
        </p:blipFill>
        <p:spPr>
          <a:xfrm>
            <a:off x="5219640" y="620640"/>
            <a:ext cx="3411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0. Приступаем к выполнению листочка. Для этого делаем бороздки полукруглым резцом в намеченном месте, обводим контур листа палочкой и начинаем прорабатывать листок, освобождая его от куска мыл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2" descr="E:\для мастеркласса по мылу\фото\фото099.jpg"/>
          <p:cNvPicPr/>
          <p:nvPr/>
        </p:nvPicPr>
        <p:blipFill>
          <a:blip r:embed="rId1"/>
          <a:stretch/>
        </p:blipFill>
        <p:spPr>
          <a:xfrm>
            <a:off x="5580000" y="765000"/>
            <a:ext cx="295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1. С другой стороны выполняем такой же листок. Повторяя последовательно вырезать лепесток из куска мы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2" descr="E:\для мастеркласса по мылу\фото\фото107.jpg"/>
          <p:cNvPicPr/>
          <p:nvPr/>
        </p:nvPicPr>
        <p:blipFill>
          <a:blip r:embed="rId1"/>
          <a:stretch/>
        </p:blipFill>
        <p:spPr>
          <a:xfrm>
            <a:off x="5651640" y="692280"/>
            <a:ext cx="2808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2. Сделать прожилки можно как угловым, так и прямым  резцом или палочк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Picture 2" descr="E:\для мастеркласса по мылу\фото\фото162.jpg"/>
          <p:cNvPicPr/>
          <p:nvPr/>
        </p:nvPicPr>
        <p:blipFill>
          <a:blip r:embed="rId1"/>
          <a:stretch/>
        </p:blipFill>
        <p:spPr>
          <a:xfrm>
            <a:off x="1258920" y="3716280"/>
            <a:ext cx="2790720" cy="2016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E:\для мастеркласса по мылу\фото\фото110.jpg"/>
          <p:cNvPicPr/>
          <p:nvPr/>
        </p:nvPicPr>
        <p:blipFill>
          <a:blip r:embed="rId2"/>
          <a:stretch/>
        </p:blipFill>
        <p:spPr>
          <a:xfrm>
            <a:off x="5219640" y="620640"/>
            <a:ext cx="338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62120" y="929880"/>
            <a:ext cx="430992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3. В конце работы мыло по кругу подрезается, в результате освобождаются лепестки и листоч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ное мыло требует разной обрабо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2" descr="E:\для мастеркласса по мылу\фото\фото111.jpg"/>
          <p:cNvPicPr/>
          <p:nvPr/>
        </p:nvPicPr>
        <p:blipFill>
          <a:blip r:embed="rId1"/>
          <a:stretch/>
        </p:blipFill>
        <p:spPr>
          <a:xfrm>
            <a:off x="4932360" y="496800"/>
            <a:ext cx="3743280" cy="26449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E:\для мастеркласса по мылу\фото\фото163.jpg"/>
          <p:cNvPicPr/>
          <p:nvPr/>
        </p:nvPicPr>
        <p:blipFill>
          <a:blip r:embed="rId2"/>
          <a:stretch/>
        </p:blipFill>
        <p:spPr>
          <a:xfrm>
            <a:off x="5072040" y="3284640"/>
            <a:ext cx="350208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61760" y="929880"/>
            <a:ext cx="445284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4. После уточнения деталей и обработки цветка, готовую работу необходимо упаковать. Это может быть коробочка, оформленная декоративно или выполненная из пластиковой бутылк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2" descr="E:\для мастеркласса по мылу\фото\фото123.jpg"/>
          <p:cNvPicPr/>
          <p:nvPr/>
        </p:nvPicPr>
        <p:blipFill>
          <a:blip r:embed="rId1"/>
          <a:stretch/>
        </p:blipFill>
        <p:spPr>
          <a:xfrm>
            <a:off x="5208480" y="54936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6" descr="F:\IMG_3001.JPG"/>
          <p:cNvPicPr/>
          <p:nvPr/>
        </p:nvPicPr>
        <p:blipFill>
          <a:blip r:embed="rId2"/>
          <a:stretch/>
        </p:blipFill>
        <p:spPr>
          <a:xfrm>
            <a:off x="5214960" y="3000240"/>
            <a:ext cx="3429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5. В коробочку помещают салфетки или соломкой порезанную гофрированную бумагу для того, чтобы сохранить хрупкое издел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Picture 2" descr="E:\для мастеркласса по мылу\фото\фото123.jpg"/>
          <p:cNvPicPr/>
          <p:nvPr/>
        </p:nvPicPr>
        <p:blipFill>
          <a:blip r:embed="rId1"/>
          <a:stretch/>
        </p:blipFill>
        <p:spPr>
          <a:xfrm>
            <a:off x="5510160" y="549360"/>
            <a:ext cx="3097440" cy="4248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E:\для мастеркласса по мылу\фото\фото176.jpg"/>
          <p:cNvPicPr/>
          <p:nvPr/>
        </p:nvPicPr>
        <p:blipFill>
          <a:blip r:embed="rId2"/>
          <a:stretch/>
        </p:blipFill>
        <p:spPr>
          <a:xfrm>
            <a:off x="5492880" y="4365720"/>
            <a:ext cx="2952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6. В крышечке вырезаем овальное отверстие и украшаем бисер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т так выглядит готовое изделие, которое можно подарить к празднику 8 мар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2" descr="E:\для мастеркласса по мылу\фото\фото012.jpg"/>
          <p:cNvPicPr/>
          <p:nvPr/>
        </p:nvPicPr>
        <p:blipFill>
          <a:blip r:embed="rId1"/>
          <a:stretch/>
        </p:blipFill>
        <p:spPr>
          <a:xfrm>
            <a:off x="5405400" y="571680"/>
            <a:ext cx="327672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1"/>
          <p:cNvSpPr/>
          <p:nvPr/>
        </p:nvSpPr>
        <p:spPr>
          <a:xfrm>
            <a:off x="571680" y="50004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ный подарок можно хранить в коробочке с отверстием в бельевом шкафу от мо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нченное изделие может украсить любой туалетный стол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Вам творческих успех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F:\IMG_2989.JPG"/>
          <p:cNvPicPr/>
          <p:nvPr/>
        </p:nvPicPr>
        <p:blipFill>
          <a:blip r:embed="rId1"/>
          <a:stretch/>
        </p:blipFill>
        <p:spPr>
          <a:xfrm>
            <a:off x="571680" y="71424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ир глазами художника» Артемьева Н.А</a:t>
            </a:r>
            <a:r>
              <a:rPr b="0" lang="ru-RU" sz="3200" spc="-1" strike="noStrike">
                <a:solidFill>
                  <a:srgbClr val="848fba"/>
                </a:solidFill>
                <a:latin typeface="Times New Roman"/>
                <a:ea typeface="Times New Roman"/>
              </a:rPr>
              <a:t>. </a:t>
            </a:r>
            <a:endParaRPr b="1" lang="en-US" sz="3200" spc="-1" strike="noStrike">
              <a:solidFill>
                <a:srgbClr val="848fb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54291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Verdana"/>
              </a:rPr>
              <a:t>Результат мастер-класса</a:t>
            </a:r>
            <a:endParaRPr b="1" lang="en-US" sz="3600" spc="-1" strike="noStrike">
              <a:solidFill>
                <a:srgbClr val="848fba"/>
              </a:solidFill>
              <a:latin typeface="Verdana"/>
            </a:endParaRPr>
          </a:p>
        </p:txBody>
      </p:sp>
      <p:pic>
        <p:nvPicPr>
          <p:cNvPr id="329" name="Рисунок 6" descr="F:\IMG_3016.JPG"/>
          <p:cNvPicPr/>
          <p:nvPr/>
        </p:nvPicPr>
        <p:blipFill>
          <a:blip r:embed="rId1"/>
          <a:stretch/>
        </p:blipFill>
        <p:spPr>
          <a:xfrm>
            <a:off x="2571840" y="642960"/>
            <a:ext cx="3857400" cy="26226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7" descr="F:\для мастеркласса по мылу\ф. мастер. отчет\фото004.jpg"/>
          <p:cNvPicPr/>
          <p:nvPr/>
        </p:nvPicPr>
        <p:blipFill>
          <a:blip r:embed="rId2"/>
          <a:stretch/>
        </p:blipFill>
        <p:spPr>
          <a:xfrm>
            <a:off x="2714760" y="3071880"/>
            <a:ext cx="3643200" cy="25002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8" descr="F:\для мастеркласса по мылу\ф. мастер. отчет\фото000.jpg"/>
          <p:cNvPicPr/>
          <p:nvPr/>
        </p:nvPicPr>
        <p:blipFill>
          <a:blip r:embed="rId3"/>
          <a:stretch/>
        </p:blipFill>
        <p:spPr>
          <a:xfrm>
            <a:off x="500040" y="2571840"/>
            <a:ext cx="1158840" cy="14288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9" descr="F:\для мастеркласса по мылу\ф. мастер. отчет\фото001.jpg"/>
          <p:cNvPicPr/>
          <p:nvPr/>
        </p:nvPicPr>
        <p:blipFill>
          <a:blip r:embed="rId4"/>
          <a:stretch/>
        </p:blipFill>
        <p:spPr>
          <a:xfrm>
            <a:off x="7572240" y="2286000"/>
            <a:ext cx="1094040" cy="164628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10" descr="F:\для мастеркласса по мылу\ф. мастер. отчет\фото002.jpg"/>
          <p:cNvPicPr/>
          <p:nvPr/>
        </p:nvPicPr>
        <p:blipFill>
          <a:blip r:embed="rId5"/>
          <a:stretch/>
        </p:blipFill>
        <p:spPr>
          <a:xfrm>
            <a:off x="6286680" y="2286000"/>
            <a:ext cx="1244520" cy="161460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2" descr="F:\для мастеркласса по мылу\фото мыло\фото037.jpg"/>
          <p:cNvPicPr/>
          <p:nvPr/>
        </p:nvPicPr>
        <p:blipFill>
          <a:blip r:embed="rId6"/>
          <a:stretch/>
        </p:blipFill>
        <p:spPr>
          <a:xfrm>
            <a:off x="1714680" y="2571840"/>
            <a:ext cx="1029960" cy="14796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3" descr="F:\IMG_3006.JPG"/>
          <p:cNvPicPr/>
          <p:nvPr/>
        </p:nvPicPr>
        <p:blipFill>
          <a:blip r:embed="rId7"/>
          <a:stretch/>
        </p:blipFill>
        <p:spPr>
          <a:xfrm>
            <a:off x="500040" y="571680"/>
            <a:ext cx="2635200" cy="20001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14" descr="F:\IMG_3007.JPG"/>
          <p:cNvPicPr/>
          <p:nvPr/>
        </p:nvPicPr>
        <p:blipFill>
          <a:blip r:embed="rId8"/>
          <a:stretch/>
        </p:blipFill>
        <p:spPr>
          <a:xfrm>
            <a:off x="6000840" y="571680"/>
            <a:ext cx="2643120" cy="171288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15" descr="F:\IMG_3008.JPG"/>
          <p:cNvPicPr/>
          <p:nvPr/>
        </p:nvPicPr>
        <p:blipFill>
          <a:blip r:embed="rId9"/>
          <a:stretch/>
        </p:blipFill>
        <p:spPr>
          <a:xfrm>
            <a:off x="6143760" y="3857760"/>
            <a:ext cx="2420640" cy="20001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6" descr="F:\IMG_3009.JPG"/>
          <p:cNvPicPr/>
          <p:nvPr/>
        </p:nvPicPr>
        <p:blipFill>
          <a:blip r:embed="rId10"/>
          <a:stretch/>
        </p:blipFill>
        <p:spPr>
          <a:xfrm>
            <a:off x="500040" y="4000680"/>
            <a:ext cx="23576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E:\для мастеркласса по мылу\фото\фото007.jpg"/>
          <p:cNvPicPr/>
          <p:nvPr/>
        </p:nvPicPr>
        <p:blipFill>
          <a:blip r:embed="rId1"/>
          <a:stretch/>
        </p:blipFill>
        <p:spPr>
          <a:xfrm>
            <a:off x="642960" y="357120"/>
            <a:ext cx="4896000" cy="60721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3"/>
          <p:cNvSpPr/>
          <p:nvPr/>
        </p:nvSpPr>
        <p:spPr>
          <a:xfrm>
            <a:off x="714240" y="58579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 Мир глазами художника»     Артемьев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4" descr="F:\IMG_2995.JPG"/>
          <p:cNvPicPr/>
          <p:nvPr/>
        </p:nvPicPr>
        <p:blipFill>
          <a:blip r:embed="rId2"/>
          <a:stretch/>
        </p:blipFill>
        <p:spPr>
          <a:xfrm>
            <a:off x="5143680" y="857160"/>
            <a:ext cx="35002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E:\для мастеркласса по мылу\фото\фото073.jpg"/>
          <p:cNvPicPr/>
          <p:nvPr/>
        </p:nvPicPr>
        <p:blipFill>
          <a:blip r:embed="rId1"/>
          <a:stretch/>
        </p:blipFill>
        <p:spPr>
          <a:xfrm>
            <a:off x="785880" y="642960"/>
            <a:ext cx="7129440" cy="564372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1071720" y="5072040"/>
            <a:ext cx="585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ир глазами художника»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мьева Н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Горбунов Серг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о конкурса «Радуга дет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E:\для мастеркласса по мылу\фото\фото069.jpg"/>
          <p:cNvPicPr/>
          <p:nvPr/>
        </p:nvPicPr>
        <p:blipFill>
          <a:blip r:embed="rId1"/>
          <a:stretch/>
        </p:blipFill>
        <p:spPr>
          <a:xfrm>
            <a:off x="826920" y="765000"/>
            <a:ext cx="7569360" cy="5328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2"/>
          <p:cNvSpPr/>
          <p:nvPr/>
        </p:nvSpPr>
        <p:spPr>
          <a:xfrm>
            <a:off x="2286000" y="56912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 Мир глазами художника»     Артемьев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: Горбунов Серг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5143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ир глазами художника»     Артемьева Н.А.</a:t>
            </a:r>
            <a:br>
              <a:rPr sz="1800"/>
            </a:br>
            <a:endParaRPr b="1" lang="en-US" sz="1800" spc="-1" strike="noStrike">
              <a:solidFill>
                <a:srgbClr val="848fba"/>
              </a:solidFill>
              <a:latin typeface="Verdana"/>
            </a:endParaRPr>
          </a:p>
        </p:txBody>
      </p:sp>
      <p:pic>
        <p:nvPicPr>
          <p:cNvPr id="241" name="Рисунок 2" descr="F:\для мастеркласса по мылу\фото мыло\фото011.jpg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27ca3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5b7e"/>
                </a:solidFill>
                <a:latin typeface="Times New Roman"/>
                <a:ea typeface="Times New Roman"/>
              </a:rPr>
              <a:t>Карвинг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зьба по овощам, льду, мылу.  Это интересное занятие, в  результате которого получаются уникальные и очень красивые ароматные подарки, которыми можно порадовать на 8 мар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E:\для мастеркласса по мылу\фото\фото012.jpg"/>
          <p:cNvPicPr/>
          <p:nvPr/>
        </p:nvPicPr>
        <p:blipFill>
          <a:blip r:embed="rId1"/>
          <a:stretch/>
        </p:blipFill>
        <p:spPr>
          <a:xfrm>
            <a:off x="5405400" y="500040"/>
            <a:ext cx="327672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785520"/>
            <a:ext cx="818352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8fba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стории карвинг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Отдыхая в Таиланде в качестве сувенира можно приобрести потрясающие цветы вырезанные из квадратного кусочка мыла. Купить их можно повсюду, красиво упакованные в раскрашенные шкатулки из кокосового или мангового дерева, они издали привлекают внимание туристов. Упаковка помогает тончающую работу мастеров сохранить и довезти до дома. В Таиланде считается, что искусство вырезания по мылу зародилось в древние времена в провинции Чианг Рай (Chiang Rai), расположенного на севере Таиланда. Искусство вырезания в стране называется "Soap carving".В этой провинции любой турист может пройти обучение у мастера и попробовать самому на собственном опыте вырезать из мыла цветок. Сами мастера искусно вырезают целые композиции, на глазах у любопытных туристов и кажется, что это очень легко, пока сам не попробуешь. </a:t>
            </a:r>
            <a:br>
              <a:rPr sz="2000"/>
            </a:br>
            <a:endParaRPr b="1" lang="en-US" sz="2000" spc="-1" strike="noStrike">
              <a:solidFill>
                <a:srgbClr val="848fb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Заречнева</cp:lastModifiedBy>
  <dcterms:modified xsi:type="dcterms:W3CDTF">2013-04-24T15:45:53Z</dcterms:modified>
  <cp:revision>79</cp:revision>
  <dc:subject/>
  <dc:title>Слайд 1</dc:title>
</cp:coreProperties>
</file>