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3530-5EB1-4163-B896-D3532209B8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E479-82AE-438D-BBC7-5B049635FE1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9A66-5886-4366-9F02-ABD4506381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6C76-E64E-45E8-B8CE-489DAEE2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90D-B82F-4CAD-B62B-BD67E923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3EEF-284B-4A71-8140-F91937B6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031-0646-4F5E-97C5-52E50860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15F-AB53-447D-AC7F-1434A462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47C-243B-40C6-9444-9A681D37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071-F082-45A4-8C85-7F888045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5B5-2018-4978-9BB3-347BDBEE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B9A-4348-4F27-A0BA-4E4D82F3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CD8-A27E-45BD-888D-FCBA0B04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EEE1-0149-45A2-9113-E184DBFB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4243-8087-404A-85BF-ED093785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2E37-8F25-4067-AE53-13ABB7867C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242064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и проведение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этап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российской олимпиады школьников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2022/23 учебном году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SEV\Desktop\34d4c78cc51bf312633e06b9e425fd056606eca2.jpg"/>
          <p:cNvPicPr/>
          <p:nvPr/>
        </p:nvPicPr>
        <p:blipFill>
          <a:blip r:embed="rId2"/>
          <a:stretch/>
        </p:blipFill>
        <p:spPr>
          <a:xfrm>
            <a:off x="539640" y="404640"/>
            <a:ext cx="302580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SEV\Desktop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рмативно-правовое обеспечение МЭВО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3640" y="90756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гиональный уровень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казы Департамента образования и молодежной политики ХМАО – Югры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6.09.2022 № 10-П-1969 «Об утверждении сроков проведения муниципального этапа всероссийской олимпиады школьников в Ханты-Мансийском автономном округе – Югре в 2022-2023 учебном году»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6.09.2022 № 10-П-2051 «Об утверждении состава региональных предметно-методических комиссий по общеобразовательным предметам всероссийской олимпиады школьников в Ханты-Мансийском автономном округе – Югре»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0.10.2022 № 10-П-2160 «Об утверждении организационно-технологических моделей проведения муниципального этапа всероссийской олимпиады школьников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анты-Мансийском автономном округе – Югре в 2022-2023 учебном году»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ый уровень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казы департамента образования Администрации города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2.10.2022 № 12-03-820/2 «Об утверждении состава организационного комитета муниципального этапа всероссийской олимпиады школьников на территории города Сургута в 2022/23 учебном году»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4.10.2022 № 12-03-830/2 «Об утверждении состава жюри муниципального этапа всероссийской олимпиады школьников на территории города Сургута в 2022/23 учебном году»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4.10.2022 № 12-03-831/2 «Об утверждении состава апелляционной комиссии муниципального этапа всероссийской олимпиады школьников на территории города Сургута в 2022/23 учебном году»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4.10.2022 № 12-03-832/2 «Об утверждении графика проведения муниципального этапа всероссийской олимпиады школьников на территории города Сургута в 2022/23 учебном году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2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ЫЙ ЭТАП ВСЕРОССИЙСКОЙ ОЛИМПИАДЫ ШКОЛЬНИК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1042920" y="1341360"/>
            <a:ext cx="7058160" cy="64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ноября – 13 декабря 2022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1042920" y="2205000"/>
            <a:ext cx="7058160" cy="64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1 общеобразовательный предм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539640" y="283860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МУНИЦИПАЛЬНОГО ЭТАП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РОССИЙСКОЙ ОЛИМПИАДЫ ШКОЛЬНИК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1042920" y="3629160"/>
            <a:ext cx="7058160" cy="2666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частники школьного этапа всероссийской олимпиады школьников </a:t>
            </a:r>
            <a:br>
              <a:rPr sz="1400"/>
            </a:br>
            <a:r>
              <a:rPr b="0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022/23 учебного года, набравшие необходимое для участия в муниципальном этапе олимпиады количество балл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бедители и призеры муниципального этапа олимпиады 2021/22 учебного год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ходатайство о включении учащегося в состав участников муниципального этапа олимпиады при соблюдении следующих услов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100000"/>
              </a:lnSpc>
              <a:buClr>
                <a:srgbClr val="00206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100000"/>
              </a:lnSpc>
              <a:buClr>
                <a:srgbClr val="00206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100000"/>
              </a:lnSpc>
              <a:buClr>
                <a:srgbClr val="00206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-748080"/>
            <a:ext cx="83534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ки проведения муниципальном этапе ВсОШ на территории города Сургут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2/23 учебном год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50920" y="692280"/>
          <a:ext cx="8713800" cy="5833800"/>
        </p:xfrm>
        <a:graphic>
          <a:graphicData uri="http://schemas.openxmlformats.org/drawingml/2006/table">
            <a:tbl>
              <a:tblPr/>
              <a:tblGrid>
                <a:gridCol w="431640"/>
                <a:gridCol w="1800360"/>
                <a:gridCol w="1728720"/>
                <a:gridCol w="3673440"/>
                <a:gridCol w="1079640"/>
              </a:tblGrid>
              <a:tr h="792000">
                <a:tc>
                  <a:txBody>
                    <a:bodyPr lIns="0" rIns="0" tIns="0" bIns="0" anchor="t">
                      <a:noAutofit/>
                    </a:bodyPr>
                    <a:p>
                      <a:pPr marL="101520"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ка проведения олимпиа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выполнения олимпиадных зада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ноября 202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узский язы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гимназия №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: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ноября 202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образователь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: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ноября 202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ноября 202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ноября 202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гимназия № 2 (10-11 класс)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№ 25 (7-8 класс)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гимназия «Лаборатория Салахова» (9 класс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 16 ноября 202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 «СурГПУ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: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ноября 202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образователь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: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ноября 202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 (МХК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ноября 202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ноября 202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ноября 202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 25 ноября 202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 «СурГПУ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: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ноября 202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цкий язы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лицей № 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: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ноября 202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образователь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ноября 202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 2 декабря 202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декабря 202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роном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декабря 202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декабря 202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декабря 202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3 декабря 202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участники муниципального этапа всероссийской олимпиады школьников по общеобразовательному предмету «Английский язык», распределенные по площадкам проведения олимпиа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11280" y="1197000"/>
          <a:ext cx="6912000" cy="1803240"/>
        </p:xfrm>
        <a:graphic>
          <a:graphicData uri="http://schemas.openxmlformats.org/drawingml/2006/table">
            <a:tbl>
              <a:tblPr/>
              <a:tblGrid>
                <a:gridCol w="671400"/>
                <a:gridCol w="2928960"/>
                <a:gridCol w="1152360"/>
                <a:gridCol w="935280"/>
                <a:gridCol w="1224000"/>
              </a:tblGrid>
              <a:tr h="3189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8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1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гимназия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Лаборатория Салахов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гимназия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№ 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участник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gridSpan="3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" name="Прямоугольник 1"/>
          <p:cNvSpPr/>
          <p:nvPr/>
        </p:nvSpPr>
        <p:spPr>
          <a:xfrm>
            <a:off x="611280" y="3213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участники муниципального этапа всероссийской олимпиады школьников по общеобразовательному предмету «Французский язы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11280" y="4005360"/>
          <a:ext cx="8064360" cy="504720"/>
        </p:xfrm>
        <a:graphic>
          <a:graphicData uri="http://schemas.openxmlformats.org/drawingml/2006/table">
            <a:tbl>
              <a:tblPr/>
              <a:tblGrid>
                <a:gridCol w="2036520"/>
                <a:gridCol w="1270080"/>
                <a:gridCol w="2703600"/>
                <a:gridCol w="2054160"/>
              </a:tblGrid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8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-11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учас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236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гимназия №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66" name="Прямоугольник 5"/>
          <p:cNvSpPr/>
          <p:nvPr/>
        </p:nvSpPr>
        <p:spPr>
          <a:xfrm>
            <a:off x="611280" y="4797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участники муниципального этапа всероссийской олимпиады школьников по общеобразовательному предмету «Немецкий язы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11280" y="5589720"/>
          <a:ext cx="8064360" cy="504720"/>
        </p:xfrm>
        <a:graphic>
          <a:graphicData uri="http://schemas.openxmlformats.org/drawingml/2006/table">
            <a:tbl>
              <a:tblPr/>
              <a:tblGrid>
                <a:gridCol w="1944720"/>
                <a:gridCol w="1282680"/>
                <a:gridCol w="2727360"/>
                <a:gridCol w="2109600"/>
              </a:tblGrid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8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-11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учас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236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лицей №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860400" y="614520"/>
          <a:ext cx="7488360" cy="2358720"/>
        </p:xfrm>
        <a:graphic>
          <a:graphicData uri="http://schemas.openxmlformats.org/drawingml/2006/table">
            <a:tbl>
              <a:tblPr/>
              <a:tblGrid>
                <a:gridCol w="1513080"/>
                <a:gridCol w="5975280"/>
              </a:tblGrid>
              <a:tr h="473040"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й этап всероссийской олимпиады школьников по общеобразовательному предмету «Физическая культура»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ноября 2022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00 – 08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страция участников, жеребьев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провождение участников к месту проведения теоретического 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.00 – 9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олимпиадных заданий теоретического 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0 – 14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олимпиадных заданий практического 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вободное вре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826920" y="3213000"/>
          <a:ext cx="7488360" cy="3024360"/>
        </p:xfrm>
        <a:graphic>
          <a:graphicData uri="http://schemas.openxmlformats.org/drawingml/2006/table">
            <a:tbl>
              <a:tblPr/>
              <a:tblGrid>
                <a:gridCol w="1513080"/>
                <a:gridCol w="5975280"/>
              </a:tblGrid>
              <a:tr h="274680">
                <a:tc gridSpan="2"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Физическая культура»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ноября 2022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9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.00 – 13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олимпиадных заданий практического 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вободное вре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45-14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бор олимпиадных заданий с участ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вление предварительных результатов Олимпиа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45-15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 работ, прием заявлений на апелляцию. Работа апелляционной коми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5-16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жюри и уполномоченного по подведению итогов Олимпиады и оформление отчетной докуме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юри олимпиад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400" y="691920"/>
            <a:ext cx="86072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нь проведения олимпиад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:00 готовят материалы для осуществления процедуры анализа олимпиадных заданий и их реше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ледующий день после проведения муниципального этапа олимпиады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 проверку и оценивает выполненные олимпиадные задания участников олимпиады в соответствии с критериями и методиками оценивания выполненных олимпиадных заданий, разработанными региональными предметно-методическими комиссиям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ит документы для размещения предварительных результатов на Официальном портал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ет оценочный лист выполнения участниками муниципального этапа всероссийской олимпиады школьников – предварительные результа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 работу участника олимпиады, набравшего наибольшее количество баллов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ет всю информацию Куратору МАУ «ИМЦ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ледующий день после завершения процедуры проверки и оценивания выполненных олимпиадных заданий участниками олимпиад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 по запросу участника олимпиады показ выполненных им олимпиадных зада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ледующий день после завершения процедуры апелля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ит и предоставляет результаты муниципального этапа олимпиады (протоколы) для их утверждения после проведения апелляции и внесения изменений в итоговую таблицу (протокол) результатов участника муниципального этапа олимпиады по общеобразовательному предмету (при необходимост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10 дней по окончанию муниципального этапа олимпиад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ит информационно-аналитический отчет по общеобразовательному предмету по результатам муниципального этапа всероссийской олимпиады школьн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елляционная комисс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ледующий день после завершения процедуры проверки и оценивания выполненных олимпиадных заданий участниками олимпиады с 14:00-17:0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ют очно апелляции участников олимпиады. Принимают решение об отклонении / удовлетворении апелляции простым большинством голосов и оформляют протокол заседания апелляционной комиссии по итогам рассмотрения апелляции.</a:t>
            </a: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9T09:33:06Z</dcterms:created>
  <dc:creator>Елена Владимировна Сухова</dc:creator>
  <dc:description/>
  <dc:language>en-US</dc:language>
  <cp:lastModifiedBy>Татьяна Васильевна Исакова</cp:lastModifiedBy>
  <dcterms:modified xsi:type="dcterms:W3CDTF">2022-10-27T11:03:39Z</dcterms:modified>
  <cp:revision>112</cp:revision>
  <dc:subject/>
  <dc:title>УСТАНОВОЧНОЕ ВОВЕЩАНИЕ  по организации и проведению всероссийской олимпиады школьников  03.09.2019</dc:title>
</cp:coreProperties>
</file>