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F05-8178-4737-A1DD-F83EC8A4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CF3-7AD5-4B21-B71E-C7462CF2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21F-6208-4D8D-A680-508DAAF4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2DF-6F6C-43FB-87DA-40357419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777-68C5-4D49-A4CD-1F5A1209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7DD-4854-406E-8056-521DA92D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225-81B1-4878-BD88-03C97944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863-7B97-4C5F-8086-96F33ECE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387-27F8-4686-BE54-CC9FA8E6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1F5-F424-4CFF-8B1B-C6D5E5D0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B03-D476-485C-810C-3753B767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A82-DC21-4858-8074-3884DCC7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7F44-7E84-4F90-A486-61299C5C6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95280" y="3960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ицей №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(творческий)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го потенциала учащихся на уроках технологии и занятиях дополнительного образования  через спортивно-конкурсную программу «Эх, прокачусь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Описание: C:\Users\Дом\Desktop\Санки\DSC01838.JPG"/>
          <p:cNvPicPr/>
          <p:nvPr/>
        </p:nvPicPr>
        <p:blipFill>
          <a:blip r:embed="rId1"/>
          <a:srcRect l="2637" t="0" r="0" b="0"/>
          <a:stretch/>
        </p:blipFill>
        <p:spPr>
          <a:xfrm>
            <a:off x="2627280" y="1916280"/>
            <a:ext cx="3921120" cy="3025440"/>
          </a:xfrm>
          <a:prstGeom prst="rect">
            <a:avLst/>
          </a:prstGeom>
          <a:ln w="25560">
            <a:solidFill>
              <a:srgbClr val="0d0d0d">
                <a:alpha val="50000"/>
              </a:srgbClr>
            </a:solidFill>
            <a:miter/>
          </a:ln>
        </p:spPr>
      </p:pic>
      <p:sp>
        <p:nvSpPr>
          <p:cNvPr id="43" name="Rectangle 3"/>
          <p:cNvSpPr/>
          <p:nvPr/>
        </p:nvSpPr>
        <p:spPr>
          <a:xfrm>
            <a:off x="250920" y="5244480"/>
            <a:ext cx="867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5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Писковитин  Александр Васильевич, учитель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5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хнический труд и черчение) высшей квалификационной категор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5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ый  работник  общего образования Российской Федерации,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5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ан  труда Р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5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ург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5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539640" y="1124280"/>
            <a:ext cx="806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ая аудито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участниками проекта являются учащиеся среднего и старшего звена обучения (7-е – 11-е  классы), которые принимают непосредственное участие в конструировании саней, подготовке атрибутики команд, соревнованиях. Это порядка 15 – 30 человек (может быть более – зависит от количества команд в тот или иной год выступления). Учитывая, что проект носит коллективный, массовый характер на городском уровне, соревнования проходят весной, когда уже светит солнышко и просыпается природа, а люди стремятся на свежий воздух, общее количество участников велико. Их возраст и социальный статус разнообразны. Главное – всем весело, интересно и полез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684360" y="549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539640" y="1731960"/>
            <a:ext cx="820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подготовительный (апрель-ма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 выставляются в учебных мастерских для всеобщего обоз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стерские допускаются все желающ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исково-конструкторский (летние каникулы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тверт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ботка идей, подготовка материал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ехнологический (ноябрь-январь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саней, атрибутики, составление речевок, деви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Заключительный (февраль-март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ка саней, тренировочные заезды, инструктажи по Т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Презентация (март-апрел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выступление на городском уровне, коллективный здоровый отдых на природе с друзьями,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826920" y="821160"/>
            <a:ext cx="7632720" cy="50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 в социальной сф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моего проекта является ежегодное участие в городской спортивно - конкурсной программ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х, прокачусь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нической направленности. Это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у детей и подростков устойчивый интерес к занятиям технического конструирования и модел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являть и поддерживать творческий потенциал воспитан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командный дух и умение взаимодействовать  в коллекти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этому проекту возрос интерес учащихся не только к предмет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и к возможности представлять свои проекты для внешней экспертизы: участие в олимпиадах по техническому труду, школьных и городских выставках технического и декоративно-прикладного твор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611280" y="354240"/>
            <a:ext cx="7993080" cy="29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дальнейшего развития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й проект спортивно - конкурсной программы «Эх, прокачусь!» - доказательство этому. Он успешно прошел испытание временем, доказал свою востребованность у учеников и их родителей, завоевал право на жизнь. Проект пропагандирует развитие технического творчеств; воспитание чувства коллективизма, сопричастности к общему делу; приобщение к здоровому образу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3" descr="Описание: E:\Приложения\DSC02017.JPG"/>
          <p:cNvPicPr/>
          <p:nvPr/>
        </p:nvPicPr>
        <p:blipFill>
          <a:blip r:embed="rId1"/>
          <a:stretch/>
        </p:blipFill>
        <p:spPr>
          <a:xfrm>
            <a:off x="4729320" y="3141720"/>
            <a:ext cx="4019400" cy="3014640"/>
          </a:xfrm>
          <a:prstGeom prst="rect">
            <a:avLst/>
          </a:prstGeom>
          <a:ln w="25560">
            <a:solidFill>
              <a:srgbClr val="000000">
                <a:alpha val="50000"/>
              </a:srgbClr>
            </a:solidFill>
            <a:miter/>
          </a:ln>
        </p:spPr>
      </p:pic>
      <p:sp>
        <p:nvSpPr>
          <p:cNvPr id="71" name="Прямоугольник 5"/>
          <p:cNvSpPr/>
          <p:nvPr/>
        </p:nvSpPr>
        <p:spPr>
          <a:xfrm>
            <a:off x="611280" y="3357720"/>
            <a:ext cx="396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е мероприятие стало ежегодным, традиционным. Необходимо рекламировать и  развивать данный проект на уровне города, района, округа; привлекать больше творческих объединений. В нашем лицее данному проекту быть!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900000" y="549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необходимост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250920" y="1237320"/>
            <a:ext cx="453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зовании, и, в «Технологии» в частности, наиболее продуктивным считается проектная деятельность, которая предусматривает системно – деятельностный подход в обучении. В процессе проектной деятельности учащиеся развивают свой творческий потенциал и усваивают основополагающие закономерности построения современных технолог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6" descr="Описание: E:\Приложения\DSC01183.JPG"/>
          <p:cNvPicPr/>
          <p:nvPr/>
        </p:nvPicPr>
        <p:blipFill>
          <a:blip r:embed="rId1"/>
          <a:srcRect l="0" t="0" r="0" b="9085"/>
          <a:stretch/>
        </p:blipFill>
        <p:spPr>
          <a:xfrm>
            <a:off x="4927680" y="1484280"/>
            <a:ext cx="3965400" cy="2703600"/>
          </a:xfrm>
          <a:prstGeom prst="rect">
            <a:avLst/>
          </a:prstGeom>
          <a:ln w="25560">
            <a:solidFill>
              <a:srgbClr val="0d0d0d">
                <a:alpha val="50000"/>
              </a:srgbClr>
            </a:solidFill>
            <a:miter/>
          </a:ln>
        </p:spPr>
      </p:pic>
      <p:sp>
        <p:nvSpPr>
          <p:cNvPr id="47" name="Прямоугольник 6"/>
          <p:cNvSpPr/>
          <p:nvPr/>
        </p:nvSpPr>
        <p:spPr>
          <a:xfrm>
            <a:off x="250920" y="4370400"/>
            <a:ext cx="820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я интересы детей, я пришел к выводу, что индивидуальные творческие проекты не всегда отвечают требованиям обучения, тем более, воспитания подрастающего поколения. В современном обществе, когда превалирует прагматизм, власть денег, часто бездушие и безразличие в человеческих отношениях, теряется чувство коллективизма, взаимовыручки, в конце концов, патриот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68360" y="776880"/>
            <a:ext cx="302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роект спортивно-конкурсной  программы «Эх, прокачусь!» является крупномасштабным коллективным проектом, в который вовлечены учащиеся, учителя, родители и просто жители города Сургу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7" descr="Описание: E:\Приложения\5.JPG"/>
          <p:cNvPicPr/>
          <p:nvPr/>
        </p:nvPicPr>
        <p:blipFill>
          <a:blip r:embed="rId1"/>
          <a:stretch/>
        </p:blipFill>
        <p:spPr>
          <a:xfrm>
            <a:off x="3635280" y="404640"/>
            <a:ext cx="5175360" cy="3340440"/>
          </a:xfrm>
          <a:prstGeom prst="rect">
            <a:avLst/>
          </a:prstGeom>
          <a:ln w="25560">
            <a:solidFill>
              <a:srgbClr val="000000">
                <a:alpha val="50000"/>
              </a:srgbClr>
            </a:solidFill>
            <a:miter/>
          </a:ln>
        </p:spPr>
      </p:pic>
      <p:sp>
        <p:nvSpPr>
          <p:cNvPr id="50" name="Прямоугольник 3"/>
          <p:cNvSpPr/>
          <p:nvPr/>
        </p:nvSpPr>
        <p:spPr>
          <a:xfrm>
            <a:off x="468360" y="3860640"/>
            <a:ext cx="84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направлен не только на развитие творческого потенциала учащихся на уроках технологии и занятиях дополнительного образования, но и на воспитание командного духа, умение взаимодействовать в коллективе, привлечение большого количества людей для проведения совместного веселого, завлекательного, полезного общегородского  досугового  меро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95280" y="702000"/>
            <a:ext cx="831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оего проекта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мотивации учащихся к изучению предмета «Технология. Технический труд», развитие творческих способностей с помощью коллективного творческого проекта, предусматривающего не только создание объекта творчества, но и презентация его в виде спортивно-массового мероприятия на городском уров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у детей устойчивого интереса к занятиям технического конструирования и модел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явление и поддержка творческого потенциала воспитан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общественно ценных мотивов деятельности (коллективизм, патриотизм, ответственность, чувство сопричастности к общему делу и т.д.) в процессе интеграции различных предметных областей и различных видов исследовательской, проектной и практической деятельности учащихся во взаимодействии с другими участниками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содержание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720720" y="1476360"/>
            <a:ext cx="809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курс проводиться 1 раз в год на базе МА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пар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арт-апре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астники: образовательные учреждения г.Сургута и рай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рабатывается или корректируется общее Положение конкурса совместно с представителями городского парка и руководителями команд-учас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зготавливаются санки по параметрам определенным Поло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ормируются команды участники группы болельщиков для участия в спортивной эстаф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азрабатываются девизы, речевки, атрибутик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существляются тренировочные меро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Инструктаж по Т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орев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Подведение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е изделия – са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 в приложени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123920"/>
          <a:ext cx="8521560" cy="5502240"/>
        </p:xfrm>
        <a:graphic>
          <a:graphicData uri="http://schemas.openxmlformats.org/drawingml/2006/table">
            <a:tbl>
              <a:tblPr/>
              <a:tblGrid>
                <a:gridCol w="387360"/>
                <a:gridCol w="2085840"/>
                <a:gridCol w="2921040"/>
                <a:gridCol w="3127320"/>
              </a:tblGrid>
              <a:tr h="6415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са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ма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и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тствие (читал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ра, Югра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 Югре, Югре дорогу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гра – наша родина, Югра – наш дом и мы в нем счастливо живем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раган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ганит миг победы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ган сметает всех, впереди нас ждет успе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альные табурет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ед и в низ, а там…(победа ожидает, поверьте нам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уретки наши класс, победим мы всех сей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ртова колесниц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рашен черт, нестрашен дьявол, когда друзья сплотились рядом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т летит на колеснице, разлетаются все птиц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уран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ство и отвага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м не страшен ураган, когда рядом есть «Буран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с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, вперед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а Родина – Русь Великая, Русь могучая, многолик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539640" y="172800"/>
            <a:ext cx="8028000" cy="63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для любого учителя в его инновационной деятельности является ресурсное обеспечение учебного процесса. Для учителей технологии, чей предмет наиболее затратный в плане материально - технического обеспечения, этот особенно актуально. Для реализации моего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х, прокачусь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сновном имеются необходимые условия как административные, так и материальные. Администрация, понимая значимость проекта для образования и воспитания учащихся, выделяет необходимые денежные средства. Но для успешной реализации проекта деньги не являются основным источником результата, важно грамотно расставить приорит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дровый ресурс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неджер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министрация лиц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еля технологии, физики, черчения, ИЗО, лите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дагоги дополните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менной ресур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сь учебный год, включая канику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ационный ресур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тературные исторические источники, технические справочники, ресурсы Интерн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468360" y="419400"/>
            <a:ext cx="7848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риально – технический ресур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лизации поставленных задач в  лицея №2 имеются комбинированные мастерские: столярно-механическая и слесарно-механи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468360" y="465768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нансовые ресурс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ывая, что в основном материалы используются из вторичного сырья (отходы производства, б/у школьная мебель, разукомплектованные лыжи и т. д.), денежные затраты невелики. Это 10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0 рублей на краску и крепежные детали. А также 15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00 рублей на атрибутику и экипировку коман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Описание: E:\Приложения\DSC02040.JPG"/>
          <p:cNvPicPr/>
          <p:nvPr/>
        </p:nvPicPr>
        <p:blipFill>
          <a:blip r:embed="rId1"/>
          <a:stretch/>
        </p:blipFill>
        <p:spPr>
          <a:xfrm>
            <a:off x="755640" y="1778040"/>
            <a:ext cx="3456000" cy="2587680"/>
          </a:xfrm>
          <a:prstGeom prst="rect">
            <a:avLst/>
          </a:prstGeom>
          <a:ln w="25560">
            <a:solidFill>
              <a:srgbClr val="000000">
                <a:alpha val="50000"/>
              </a:srgbClr>
            </a:solidFill>
            <a:miter/>
          </a:ln>
        </p:spPr>
      </p:pic>
      <p:pic>
        <p:nvPicPr>
          <p:cNvPr id="60" name="Рисунок 5" descr="Описание: E:\Приложения\DSC02035.JPG"/>
          <p:cNvPicPr/>
          <p:nvPr/>
        </p:nvPicPr>
        <p:blipFill>
          <a:blip r:embed="rId2"/>
          <a:stretch/>
        </p:blipFill>
        <p:spPr>
          <a:xfrm>
            <a:off x="4884840" y="1773360"/>
            <a:ext cx="3432240" cy="2570040"/>
          </a:xfrm>
          <a:prstGeom prst="rect">
            <a:avLst/>
          </a:prstGeom>
          <a:ln w="25560">
            <a:solidFill>
              <a:srgbClr val="000000">
                <a:alpha val="5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250920" y="853200"/>
            <a:ext cx="38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ами моего проекта является большой круг организаторов, помощников, энтузиастов.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ция лицея, классные руководители, учителя-предметники, педагоги дополните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пар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ЮТ (станция юных техников), инициативные учителя города Сургу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0" descr="Описание: E:\Приложения\DSC01291.JPG"/>
          <p:cNvPicPr/>
          <p:nvPr/>
        </p:nvPicPr>
        <p:blipFill>
          <a:blip r:embed="rId1"/>
          <a:stretch/>
        </p:blipFill>
        <p:spPr>
          <a:xfrm>
            <a:off x="4211640" y="1197000"/>
            <a:ext cx="4408560" cy="3297240"/>
          </a:xfrm>
          <a:prstGeom prst="rect">
            <a:avLst/>
          </a:prstGeom>
          <a:ln w="25560">
            <a:solidFill>
              <a:srgbClr val="000000">
                <a:alpha val="50000"/>
              </a:srgbClr>
            </a:solidFill>
            <a:miter/>
          </a:ln>
        </p:spPr>
      </p:pic>
      <p:sp>
        <p:nvSpPr>
          <p:cNvPr id="63" name="Прямоугольник 5"/>
          <p:cNvSpPr/>
          <p:nvPr/>
        </p:nvSpPr>
        <p:spPr>
          <a:xfrm>
            <a:off x="3502080" y="40464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250920" y="4508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дители учащихся, спонсоры проекта (компан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ai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О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шка- сладкоеж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агазин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ш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08:00:51Z</dcterms:created>
  <dc:creator>Дом</dc:creator>
  <dc:description/>
  <dc:language>en-US</dc:language>
  <cp:lastModifiedBy>Дом</cp:lastModifiedBy>
  <dcterms:modified xsi:type="dcterms:W3CDTF">2012-11-20T14:11:26Z</dcterms:modified>
  <cp:revision>13</cp:revision>
  <dc:subject/>
  <dc:title>Слайд 1</dc:title>
</cp:coreProperties>
</file>